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443-D060-4271-B47A-0656887D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492-EA05-430C-BBD3-44503B22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AB8-0FAA-436A-BF22-1899639B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ED3-D039-4837-9BCE-8DAEFD52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7E0B-3400-4799-A2C6-449B45E1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31B8-F666-4E22-A3D0-47417057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DA97-977F-4E49-9D7E-04254F94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B668-91F4-440B-A5E8-54FA43F3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D286-275A-46EE-B493-761E4B6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BDB-7B40-4A8B-94BE-31C521AB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9B78-2A85-45EC-A778-AA76079F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736-6F06-4514-BB2A-49F4E4E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A1C5-FB24-4E7F-8D91-5997CC66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39DB-17E4-4818-BD2C-75653F83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18D2-D47B-4AD1-BC19-63BABF2D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E03F-DA20-406B-9C8A-C3BD1C9A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8F2A-420E-4E49-9C07-FD4F7267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29AA8-CCDC-4C27-AB76-89AB2D5F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EAC1D-3937-4B8D-9386-17121380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2044F-0957-4206-B087-E51507EF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168BA-8231-4A7D-86B2-DDD407F2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58E34-A598-4BA9-BBB4-84E27A90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573-974D-40C4-8984-50EC105B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AE98F-A572-4B21-B420-3BB4625D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4A6DB-4D2A-4BC4-BE36-64D6A34D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CFAA4-21D3-45A4-9BAA-2503D694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438A7-20D9-425D-814D-C1ED77F0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E7C91-F990-4CC6-8DBC-4084C421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20900-CCA2-4161-8A27-E9BAB660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4D2AC-276D-42E2-88F3-C4472743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3C640-A422-4BF4-AF9E-597E9A82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3FBA-9E70-41E6-A155-AEB64046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DAD5-6D9D-4E0A-8CD7-2E3ABA8A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E71-D7B8-424F-ABBF-954DFF3C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3DF9-1BA5-431A-984B-BAA0F66E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12929-5772-452D-BE6F-0A1A07F6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623E-805E-4273-B38F-31C6882B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3BAA-1B81-432D-9893-F5950DD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7D85-BC07-4186-9372-01B058A4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8287-2B82-423F-ACDA-BE1B8D1A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BB37-507B-4E9D-94DF-0A27ED42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9ABA-5BBC-4C68-9129-91DF43B1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73AF-5482-4557-96A2-E2ED3F84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F63A1-7DE7-49FD-B934-C03E88141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98D-28C3-47D5-AE81-4F5F4B3A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AAFBF-8E91-4CB9-9FBD-0E189486F1B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0F4A8-7DAC-40B5-8461-5145046031F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4D08A-5D8A-400D-9D8A-AB2E5F51F1A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A076B-82A8-4039-8F48-9AB77760C8A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88922-336A-4F1F-B1C2-37D153F331D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7028B-BD64-471D-9322-FAA43CD820A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C7BA2-164B-4F94-8341-EE9763C033A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BECBA-3117-400B-BD75-117ABA53D3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B5DBB-C81F-48FB-ACBA-CDDF8B0BE3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6B54E-6BA6-4660-A423-EEBE7331A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D3A-CD77-4312-8539-3E781063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59619-3F5A-47BF-ADDB-4B66CF29E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607-7A10-403F-96CE-303379E2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951-84ED-4E90-8885-E6837D87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00C-AF1D-4B98-90E8-4CA3C47B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C074-6966-470D-AFAC-9CDD07F8F3C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7AFD-B6AF-4FCB-97CF-5C3D2F1A233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FE27-526C-43D4-A6C2-FBD8CF373ED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2FAD-0665-4622-846B-F9EF9F03666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3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086"/>
                </a:solidFill>
                <a:latin typeface="Georgia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4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160F-DDE6-402E-910C-E08EF5F79F8C}" type="slidenum">
              <a:rPr b="0" lang="en-US" sz="9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journals.lww.com/academicmedicine/Fulltext/2003/01000/Assessing_Students__Performances_in_a.19.aspx" TargetMode="External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2045520" y="70020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206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2060"/>
                </a:solidFill>
                <a:latin typeface="Times New Roman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МОДУЛ </a:t>
            </a:r>
            <a:r>
              <a:rPr b="1" lang="sr-CS" sz="2400" spc="-1" strike="noStrike">
                <a:solidFill>
                  <a:srgbClr val="42445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24456"/>
                </a:solidFill>
                <a:latin typeface="Times New Roman"/>
              </a:rPr>
              <a:t>Вештина комуникације у здрав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63640" y="3124080"/>
            <a:ext cx="5616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42445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424456"/>
                </a:solidFill>
                <a:latin typeface="Times New Roman"/>
              </a:rPr>
              <a:t>1</a:t>
            </a:r>
            <a:r>
              <a:rPr b="1" lang="sr-CS" sz="2200" spc="-1" strike="noStrike">
                <a:solidFill>
                  <a:srgbClr val="424456"/>
                </a:solidFill>
                <a:latin typeface="Times New Roman"/>
              </a:rPr>
              <a:t>. наставна јединица (једана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Вештина комуникације у репродуктивној 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272840" y="573264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24456"/>
                </a:solidFill>
                <a:latin typeface="Times New Roman"/>
              </a:rPr>
              <a:t>Доц. др Марија Шо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Избор</a:t>
            </a:r>
            <a:r>
              <a:rPr b="0" lang="sr-Latn-C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канала</a:t>
            </a:r>
            <a:r>
              <a:rPr b="0" lang="sr-Latn-C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комуникациј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6560" y="22496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директ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ренет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исме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сме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Лична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резентациј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Медиј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Догађај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манифестациј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3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456"/>
                </a:solidFill>
                <a:latin typeface="Trebuchet MS"/>
              </a:rPr>
              <a:t>List 1</a:t>
            </a: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4" name="Picture Placeholder 1" descr="List 1"/>
          <p:cNvPicPr/>
          <p:nvPr/>
        </p:nvPicPr>
        <p:blipFill>
          <a:blip r:embed="rId1"/>
          <a:srcRect l="0" t="9142" r="0" b="9142"/>
          <a:stretch/>
        </p:blipFill>
        <p:spPr>
          <a:xfrm>
            <a:off x="457200" y="541440"/>
            <a:ext cx="5715000" cy="5715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48160" y="2438280"/>
            <a:ext cx="24382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List 1. The Nine Abilities Addressed in Brown Medical School's Competency-based Curriculu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086"/>
                </a:solidFill>
                <a:latin typeface="Georgia"/>
              </a:rPr>
              <a:t>Copyright © 2013 Academic Medicine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7493-F94C-4557-BEA7-7F5295FB20DE}" type="slidenum">
              <a:rPr b="0" lang="en-US" sz="9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48160" y="550440"/>
            <a:ext cx="243828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Assessing Students' Performances in a Competency-based Curriculum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mith, Stephen R.; Dollase, Richard H.; Boss, Judith A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Academic Medicine. 78(1):97-107, January 2003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oi: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24456"/>
                </a:solidFill>
                <a:latin typeface="Trebuchet MS"/>
              </a:rPr>
              <a:t>Преглед у гинеколошкој амбуланти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48160" y="2438280"/>
            <a:ext cx="24382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У гинеколошком прегледу  учествују максимално три особе: пацијент, лекар и медицинска сестр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Разговор са пацијенткињом  и  упознавање са главним тегобам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Омогућити пацијенткињи интимни простор да се припеми за преглед (огртач, папуче...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Када се пацијенткиња смести на гинеколошки сто прилазимо да извршимо преглед (адекватни инструменти, одговарајуће осветљење, асистенција медицинске сестре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Током прегледа који треба да је што краћи али и што информативнији  потребна је максимална озбиљност и посвећеност пацијенту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48160" y="550440"/>
            <a:ext cx="243828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Georgia"/>
              </a:rPr>
              <a:t>Особености гинеколошког преглед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icture Placeholder 2"/>
          <p:cNvSpPr/>
          <p:nvPr/>
        </p:nvSpPr>
        <p:spPr>
          <a:xfrm>
            <a:off x="468360" y="549360"/>
            <a:ext cx="5715000" cy="57150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http://www.savjetnica.com/wp-content/uploads/2011/03/ginekoloska-ordinacija.jpg"/>
          <p:cNvPicPr/>
          <p:nvPr/>
        </p:nvPicPr>
        <p:blipFill>
          <a:blip r:embed="rId1"/>
          <a:srcRect l="23169" t="0" r="23169" b="0"/>
          <a:stretch/>
        </p:blipFill>
        <p:spPr>
          <a:xfrm>
            <a:off x="1476360" y="1341360"/>
            <a:ext cx="3816360" cy="4248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 гинеколошкој пракси поред широког знања лекар мора да поседује и интерперсоналне и комуникационе вештине како би промовисао сарадњу, отвореност и поверење између пацијента и лека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ацијенткињу треба сагледати као целокупно биће које нема само здравствени проблем већ могућ и психолошки, социјални или породични проб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Однос лекара и пацијента би требао бити отворен, искрен и пажљив те захтева стрпљење, посвећеност, праксу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Кључне вештине: емпатија, пажљиво слушање, експертско знање и рапор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Поверење је од фундаменталног значаја: охрабрити пацијенткињу да искаже своја осећања, бриге и размишљање отворе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Хипократова заклетва: све добијене информације од пацијента су поверљив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Лекар не сме да осуђује, посебно у односу на питања која се односе на сексуалне односе, навике или сексуалну орјентациј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ацијенти су данас захтевнији у смислу балансиране комуникације: подробна објашњења о њиховом здравственом стању и начину лечењ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колико пацијенткиња донекле учествује у доношењу одлуке о начину лечења и осети да је добила доста информација о њеном здравственом стању, исход лечења ће бити бољ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интерперсоналне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комуникациј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66320" y="285228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ш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с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ш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јасног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гово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ел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же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оц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умљив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ениц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еба да буду крат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клад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лагод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о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ил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активног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слушањ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6560" y="1980720"/>
            <a:ext cx="778356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кри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мер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сл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ел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же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ш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центриш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е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аж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јашњ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стиц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рафраз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мирањ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Невербално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омуницирањ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ц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р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рбал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его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уча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сниј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65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90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во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рбално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Невербално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комуницирање</a:t>
            </a:r>
            <a:br>
              <a:rPr sz="3600"/>
            </a:br>
            <a:r>
              <a:rPr b="0" lang="sr-Latn-CS" sz="2500" spc="-1" strike="noStrike">
                <a:solidFill>
                  <a:srgbClr val="424456"/>
                </a:solidFill>
                <a:latin typeface="Arial"/>
              </a:rPr>
              <a:t>(</a:t>
            </a:r>
            <a:r>
              <a:rPr b="0" lang="en-US" sz="2500" spc="-1" strike="noStrike">
                <a:solidFill>
                  <a:srgbClr val="424456"/>
                </a:solidFill>
                <a:latin typeface="Arial"/>
              </a:rPr>
              <a:t>Gerry Wilson</a:t>
            </a:r>
            <a:r>
              <a:rPr b="0" lang="sr-Latn-CS" sz="2500" spc="-1" strike="noStrike">
                <a:solidFill>
                  <a:srgbClr val="424456"/>
                </a:solidFill>
                <a:latin typeface="Arial"/>
              </a:rPr>
              <a:t>)</a:t>
            </a:r>
            <a:r>
              <a:rPr b="0" lang="en-GB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06064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ПАРАЛИНГВИСТИЧК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кализ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у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држ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цијал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ра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и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р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вор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уотвор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ир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здр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а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чи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ОЧ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богати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10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АСПЕКАТА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НЕВЕРБАЛНЕ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КОМУНИКАЦИЈЕ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3200"/>
            </a:b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(</a:t>
            </a:r>
            <a:r>
              <a:rPr b="0" lang="sr-CS" sz="2900" spc="-1" strike="noStrike">
                <a:solidFill>
                  <a:srgbClr val="424456"/>
                </a:solidFill>
                <a:latin typeface="Arial"/>
              </a:rPr>
              <a:t>Тијана</a:t>
            </a: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2900" spc="-1" strike="noStrike">
                <a:solidFill>
                  <a:srgbClr val="424456"/>
                </a:solidFill>
                <a:latin typeface="Arial"/>
              </a:rPr>
              <a:t>Мандић</a:t>
            </a: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640" y="2133720"/>
            <a:ext cx="8013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ОК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ФАЦИЈ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ГЕСТО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СТУР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ТМ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ПАЦИЈ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ОКСЕМИ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ЕЋ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ЛИКО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Невербална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омуникација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: </a:t>
            </a:r>
            <a:br>
              <a:rPr sz="4000"/>
            </a:b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разлик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између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ул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6" name="Picture 3" descr="Grimasa1in"/>
          <p:cNvPicPr/>
          <p:nvPr/>
        </p:nvPicPr>
        <p:blipFill>
          <a:blip r:embed="rId1"/>
          <a:stretch/>
        </p:blipFill>
        <p:spPr>
          <a:xfrm>
            <a:off x="1619280" y="2232000"/>
            <a:ext cx="58323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Oval 2"/>
          <p:cNvSpPr/>
          <p:nvPr/>
        </p:nvSpPr>
        <p:spPr>
          <a:xfrm>
            <a:off x="1187280" y="1981080"/>
            <a:ext cx="7270920" cy="4648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1676520" y="2362320"/>
            <a:ext cx="5333760" cy="37335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1752480" y="2666880"/>
            <a:ext cx="3810240" cy="2590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1905120" y="2895480"/>
            <a:ext cx="2133360" cy="1752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PE01000_"/>
          <p:cNvPicPr/>
          <p:nvPr/>
        </p:nvPicPr>
        <p:blipFill>
          <a:blip r:embed="rId1"/>
          <a:stretch/>
        </p:blipFill>
        <p:spPr>
          <a:xfrm>
            <a:off x="1547640" y="476280"/>
            <a:ext cx="1387800" cy="31924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2268360" y="3733920"/>
            <a:ext cx="15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,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интим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2743200" y="35812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2743200" y="358128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809880" y="3581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,5-2,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лична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персо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V="1">
            <a:off x="2819520" y="3276720"/>
            <a:ext cx="3809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486400" y="3429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,5-3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социјал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-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посл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819520" y="266688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7162920" y="34290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јав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3419640" y="476280"/>
            <a:ext cx="5040000" cy="1008000"/>
          </a:xfrm>
          <a:prstGeom prst="roundRect">
            <a:avLst>
              <a:gd name="adj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Зон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комуникациј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једн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10:51Z</dcterms:created>
  <dc:creator>Sorak</dc:creator>
  <dc:description/>
  <dc:language>en-US</dc:language>
  <cp:lastModifiedBy>Slavica</cp:lastModifiedBy>
  <dcterms:modified xsi:type="dcterms:W3CDTF">2017-01-16T09:41:05Z</dcterms:modified>
  <cp:revision>20</cp:revision>
  <dc:subject/>
  <dc:title>Вештине комуникације</dc:title>
</cp:coreProperties>
</file>